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28.png" ContentType="image/png"/>
  <Override PartName="/ppt/media/image12.jpeg" ContentType="image/jpeg"/>
  <Override PartName="/ppt/media/image7.jpeg" ContentType="image/jpeg"/>
  <Override PartName="/ppt/media/image20.png" ContentType="image/pn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24.jpeg" ContentType="image/jpeg"/>
  <Override PartName="/ppt/media/image22.png" ContentType="image/png"/>
  <Override PartName="/ppt/media/image19.jpeg" ContentType="image/jpeg"/>
  <Override PartName="/ppt/media/image1.jpeg" ContentType="image/jpeg"/>
  <Override PartName="/ppt/media/image21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2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61BF7-D3AF-4550-8152-A8B8D50215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DDCB7-A6D0-4826-9A15-164D9D1508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37907-172B-4642-BC3D-991638AFF7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0F50F-D456-4B67-AC76-A412CD9D61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98CC7-4F80-4435-B9EF-82A2B9606F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D8882-8506-4CC9-9BEA-5ADFBDF863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90FC4-FD9F-4367-B468-42313E7B63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8B9B5-2DC2-4761-9326-70CADCE3EB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CDFEA-20E7-4E26-8713-B5D5A8DE39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25BC7-540E-4A82-A18E-BBF0A66E57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DD63A-069E-42CB-A89F-C66D26271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0F782-6397-4B14-A8CE-9482F0041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8EE90-3BA6-48BE-9CF5-5F52CFD5D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03AAA-FED9-4209-9C1C-FB9F9F373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C9ED3-2784-4BF2-815E-C3FF5BE89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274E5-77E7-4930-99C3-449681112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796CB-DA08-4DC1-B1D0-1E491BEAB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45B5D-5A3A-4D4A-8641-4B28DEEE3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FCFE0-04D4-4D6A-9214-11A5BFCDC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121DB-69B3-4710-B853-B4B79FEDA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1B475-3D5D-42F0-BB11-6F945E84F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C3557-B830-459A-A2D8-B7692B9A8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6BA40-20A0-42CE-B4A1-28EC0C750B24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Who is this lady and what did she stand for??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vement for Industrial Efficienc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eople/Groups Involv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rd Motor Compan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redrick Winslow Taylor, Henry Ford, etc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Successes (laws, legal decisions, etc…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rd Assembly Line, the “Five Dollar Day”, Scientific Managemen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vement to Protect Work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eople/Groups Involv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ational Child Labor Committe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ouis Brandeis, Florence Kelly, Josephine Goldmark, etc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Successes (laws, legal decisions, etc…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Keating-Owen Act, Workers Compensation, 10 hour workday for women and m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litical Refor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Movement to Reform Local Governmen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eople/Groups Involv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mmissions, City Council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azen Pingree, Tom Johnson (Socialist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Successes (laws, legal decisions, etc…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perty taxes, public ownership of utilities and transportation, as well as other economic reform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tate Reform of Big Busines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eople/Groups Involv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obert M. La Follette, James Hogg, etc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Successes (laws, legal decisions, etc…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aws regulating railroads,  and end government corruption because of relationships with Big Busines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vement for Elections Refor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eople/Groups Involv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illiam S. U’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Successes (laws, legal decisions, etc…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ret Ballot, Initiative, Referendum, recall, direct primary, and the 1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mendment (direct election of senators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Women in Public Lif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Chapter 17 Sec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at types of jobs were women in each group likely to hold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wer Cla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gricultural, domestic and manufacturing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Middle and Upper Cla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ite-collar jobs (book keepers, stenographers, operators, etc…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at types of jobs were women in each group likely to hold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frican America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gricultural and domest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mmigra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gricultural, domestic, piecework, taking in boarders, and manufacturing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ow did educational opportunities for middle-and upper-class women change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w women’s colleges establish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rain Sca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0% of Males between 25 and 34 are now  living wher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 hom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out of seven Americans have ten of these.  What are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redit Car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very state in the U.S. has a city with this name.  What is i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incol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4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ow did these new opportunities affect the lives of middle-and upper-class women?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rriage was no longer a woman’s only alterna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ffered opportunity to pursue a profes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owed to devote oneself to reform move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ffrag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What three strategies were adopted by the suffragist to win the vote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ied to convince state legislatures to grant women the right to vo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ursued court cases to test the 1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mend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mpaigned for a national constitutional amendment to grant women the right to vo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24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What results did each strategy produce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yoming, Utah, Colorado, and Idaho granted women the vote (other states it faile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Supreme Court ruled that women were citizens, but that citizenship did not automatically confer the right to vo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t was always voted dow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gressive Presid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.R./TAFT/WILS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ddy Roosevel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Picture 5" descr=""/>
          <p:cNvPicPr/>
          <p:nvPr/>
        </p:nvPicPr>
        <p:blipFill>
          <a:blip r:embed="rId2"/>
          <a:srcRect l="-19287" t="0" r="-19287" b="0"/>
          <a:stretch/>
        </p:blipFill>
        <p:spPr>
          <a:xfrm>
            <a:off x="685800" y="1981080"/>
            <a:ext cx="3809880" cy="411480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876560" y="1294920"/>
            <a:ext cx="38098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32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Big Busines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32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Enforced Sherman Anti-Trust Act (49 Cases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32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Hepburn Act (Interstate Commerce Commission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32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ederal Reforms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32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quare Deal”=progressive reforms to even the playing field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32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Negotiated deals b/t workers and owners (ex: coal strike 1902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32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Meat Inspection Act /Pure Food and Drug Ac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32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servation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32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National Reclamation Act (1902) Set aside 200 million acres of land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32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U.S. Forest Service (1905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32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ivil Libertie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32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Women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70000"/>
              </a:lnSpc>
              <a:spcBef>
                <a:spcPts val="32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upported Women Suffrage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32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Rac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70000"/>
              </a:lnSpc>
              <a:spcBef>
                <a:spcPts val="32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ailed to truly endorse African American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70000"/>
              </a:lnSpc>
              <a:spcBef>
                <a:spcPts val="32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nvited Booker T Washington to the White Hous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6" descr=""/>
          <p:cNvPicPr/>
          <p:nvPr/>
        </p:nvPicPr>
        <p:blipFill>
          <a:blip r:embed="rId3"/>
          <a:stretch/>
        </p:blipFill>
        <p:spPr>
          <a:xfrm>
            <a:off x="380880" y="1600200"/>
            <a:ext cx="430056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4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88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5" descr=""/>
          <p:cNvPicPr/>
          <p:nvPr/>
        </p:nvPicPr>
        <p:blipFill>
          <a:blip r:embed="rId2"/>
          <a:stretch/>
        </p:blipFill>
        <p:spPr>
          <a:xfrm>
            <a:off x="1903320" y="0"/>
            <a:ext cx="5184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illiam Taf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Picture 5" descr=""/>
          <p:cNvPicPr/>
          <p:nvPr/>
        </p:nvPicPr>
        <p:blipFill>
          <a:blip r:embed="rId2"/>
          <a:srcRect l="-20101" t="0" r="-20101" b="0"/>
          <a:stretch/>
        </p:blipFill>
        <p:spPr>
          <a:xfrm>
            <a:off x="685800" y="1981080"/>
            <a:ext cx="3809880" cy="411480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Big Business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Enforced Sherman Anti Trust Act (90 cases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Lowered Tariffs slightly  (Payne Aldrich Act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Federal Reform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upported Labo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epartment of Labo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on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Allowed private business group to obtain several millions of acres of Alaskan public land (angered conservationists)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Reserved more land then T.R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ivil Liberties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omen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 marL="1085760" indent="-217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upported Suffrage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Rac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 marL="1085760" indent="-217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alked about issues but did nothing for African Americans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oodrow Wils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5" descr=""/>
          <p:cNvPicPr/>
          <p:nvPr/>
        </p:nvPicPr>
        <p:blipFill>
          <a:blip r:embed="rId2"/>
          <a:srcRect l="-18639" t="0" r="-18639" b="0"/>
          <a:stretch/>
        </p:blipFill>
        <p:spPr>
          <a:xfrm>
            <a:off x="685800" y="1981080"/>
            <a:ext cx="3809880" cy="411480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Big Busines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layton Anti-Trust Ac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Federal Reform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6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Amendment=income tax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Federal Trade Commiss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Federal Reserve System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upported strikes, picketing, and boycott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on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igned the National Park Service Bill (1916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ivil Liberti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ome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Lightly supported Suffrage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Rac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Extended Jim Crow Law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Endorsed “Birth of a Nation”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hat were the reasons for these “Progressive” movement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 address the problems that had contributed to the social upheavals of the 1890’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8686800" cy="1218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lection Of 191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Rectangle 5"/>
          <p:cNvSpPr/>
          <p:nvPr/>
        </p:nvSpPr>
        <p:spPr>
          <a:xfrm>
            <a:off x="228600" y="2438280"/>
            <a:ext cx="281952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2727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opperplate Gothic Light"/>
                <a:ea typeface="MS Pゴシック"/>
              </a:rPr>
              <a:t>Candid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6"/>
          <p:cNvSpPr/>
          <p:nvPr/>
        </p:nvSpPr>
        <p:spPr>
          <a:xfrm>
            <a:off x="3048120" y="2438280"/>
            <a:ext cx="198108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2727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opperplate Gothic Light"/>
                <a:ea typeface="MS Pゴシック"/>
              </a:rPr>
              <a:t>par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5029200" y="2438280"/>
            <a:ext cx="213372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2727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opperplate Gothic Light"/>
                <a:ea typeface="MS Pゴシック"/>
              </a:rPr>
              <a:t>Popular Vo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8"/>
          <p:cNvSpPr/>
          <p:nvPr/>
        </p:nvSpPr>
        <p:spPr>
          <a:xfrm>
            <a:off x="7162920" y="2438280"/>
            <a:ext cx="18288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2727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opperplate Gothic Light"/>
                <a:ea typeface="MS Pゴシック"/>
              </a:rPr>
              <a:t>%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9"/>
          <p:cNvSpPr/>
          <p:nvPr/>
        </p:nvSpPr>
        <p:spPr>
          <a:xfrm>
            <a:off x="228600" y="3581280"/>
            <a:ext cx="2819520" cy="2895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2727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opperplate Gothic Light"/>
                <a:ea typeface="MS Pゴシック"/>
              </a:rPr>
              <a:t>Woodrow Wilson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1f497d"/>
                </a:solidFill>
                <a:latin typeface="Copperplate Gothic Light"/>
                <a:ea typeface="MS Pゴシック"/>
              </a:rPr>
              <a:t>Teddy Roosevelt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1f497d"/>
                </a:solidFill>
                <a:latin typeface="Copperplate Gothic Light"/>
                <a:ea typeface="MS Pゴシック"/>
              </a:rPr>
              <a:t>William Taft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1f497d"/>
                </a:solidFill>
                <a:latin typeface="Copperplate Gothic Light"/>
                <a:ea typeface="MS Pゴシック"/>
              </a:rPr>
              <a:t>Eugene Deb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10"/>
          <p:cNvSpPr/>
          <p:nvPr/>
        </p:nvSpPr>
        <p:spPr>
          <a:xfrm>
            <a:off x="3048120" y="3581280"/>
            <a:ext cx="1981080" cy="2895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2727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opperplate Gothic Light"/>
                <a:ea typeface="MS Pゴシック"/>
              </a:rPr>
              <a:t>Democrat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1f497d"/>
                </a:solidFill>
                <a:latin typeface="Copperplate Gothic Light"/>
                <a:ea typeface="MS Pゴシック"/>
              </a:rPr>
              <a:t>Bull Moose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1f497d"/>
                </a:solidFill>
                <a:latin typeface="Copperplate Gothic Light"/>
                <a:ea typeface="MS Pゴシック"/>
              </a:rPr>
              <a:t>Republican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1f497d"/>
                </a:solidFill>
                <a:latin typeface="Copperplate Gothic Light"/>
                <a:ea typeface="MS Pゴシック"/>
              </a:rPr>
              <a:t>Socia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11"/>
          <p:cNvSpPr/>
          <p:nvPr/>
        </p:nvSpPr>
        <p:spPr>
          <a:xfrm>
            <a:off x="5029200" y="3581280"/>
            <a:ext cx="2133720" cy="2895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2727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opperplate Gothic Light"/>
                <a:ea typeface="MS Pゴシック"/>
              </a:rPr>
              <a:t>6,296,000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1f497d"/>
                </a:solidFill>
                <a:latin typeface="Copperplate Gothic Light"/>
                <a:ea typeface="MS Pゴシック"/>
              </a:rPr>
              <a:t>4,118,000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1f497d"/>
                </a:solidFill>
                <a:latin typeface="Copperplate Gothic Light"/>
                <a:ea typeface="MS Pゴシック"/>
              </a:rPr>
              <a:t>3,486,000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1f497d"/>
                </a:solidFill>
                <a:latin typeface="Copperplate Gothic Light"/>
                <a:ea typeface="MS Pゴシック"/>
              </a:rPr>
              <a:t>900,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12"/>
          <p:cNvSpPr/>
          <p:nvPr/>
        </p:nvSpPr>
        <p:spPr>
          <a:xfrm>
            <a:off x="7162920" y="3581280"/>
            <a:ext cx="1828800" cy="2895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2727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opperplate Gothic Light"/>
                <a:ea typeface="MS Pゴシック"/>
              </a:rPr>
              <a:t>42% (435)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1f497d"/>
                </a:solidFill>
                <a:latin typeface="Copperplate Gothic Light"/>
                <a:ea typeface="MS Pゴシック"/>
              </a:rPr>
              <a:t>27% (88)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1f497d"/>
                </a:solidFill>
                <a:latin typeface="Copperplate Gothic Light"/>
                <a:ea typeface="MS Pゴシック"/>
              </a:rPr>
              <a:t>23% (8)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1f497d"/>
                </a:solidFill>
                <a:latin typeface="Copperplate Gothic Light"/>
                <a:ea typeface="MS Pゴシック"/>
              </a:rPr>
              <a:t>6% (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y did Wilson win the Presidential Election of 1912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oosevelt and Taft split the Republican Tick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eeece1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gressive Era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29528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at does the word “Progressive” mea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4" descr=""/>
          <p:cNvPicPr/>
          <p:nvPr/>
        </p:nvPicPr>
        <p:blipFill>
          <a:blip r:embed="rId2"/>
          <a:stretch/>
        </p:blipFill>
        <p:spPr>
          <a:xfrm>
            <a:off x="0" y="3200400"/>
            <a:ext cx="9144000" cy="16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gressive Era Legis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762120" y="1523880"/>
          <a:ext cx="7772400" cy="5045040"/>
        </p:xfrm>
        <a:graphic>
          <a:graphicData uri="http://schemas.openxmlformats.org/drawingml/2006/table">
            <a:tbl>
              <a:tblPr/>
              <a:tblGrid>
                <a:gridCol w="2590560"/>
                <a:gridCol w="2590920"/>
                <a:gridCol w="2590920"/>
              </a:tblGrid>
              <a:tr h="67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gisl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rpo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9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erman Anti-Trust Ac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tlawed monopolies and unfair business practi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0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ted States Forest Servi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eate to manage nation’s water and timber resource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0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at inspection Ac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quired federal inspection of meat processing to ensure clean condi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0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re Food and Drug Ac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tlawed dishonest labeling of food and drug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partment of Lab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binet department created to promote welfare of working peop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gressive Goa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685800" y="1600200"/>
            <a:ext cx="777240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rogressives urged the government to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Rectangle 5"/>
          <p:cNvSpPr/>
          <p:nvPr/>
        </p:nvSpPr>
        <p:spPr>
          <a:xfrm>
            <a:off x="685800" y="2438280"/>
            <a:ext cx="7772400" cy="4191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stribute Wealth Equal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ect Social Welf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moting Moral Improv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ating Economic Reform and Stop Unfair Business Pract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duce government corru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stering Efficienc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eeece1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Origins of Progressive Era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cial Refor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cial Welfare Reform Move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eople/Groups Involv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YMCA, Salvation Army, Settlement Houses, Hull House, etc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Jane Adams, Florence Kelly, etc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Successes (laws, legal decisions, etc…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reated a variety of public servi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ral Reform Move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eople/Groups Involv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oman’s Christian Temperance Union, Anti-Saloon Leagu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rances Willard, Carey Nation, etc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Successes (laws, legal decisions, etc…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hibition adopted by many town and state governm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8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mendment (Prohibitio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conomic Reform Move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eople/Groups Involv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merican Socialist Party, Muckrak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ugene Debs, Ida Tarbell, etc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Successes (laws, legal decisions, etc…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xposed corruption in different industri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qual distribution of wealth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6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mendment (Income Tax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9T14:00:30Z</dcterms:created>
  <dc:creator>Buffalo Grove High School</dc:creator>
  <dc:description/>
  <dc:language>en-US</dc:language>
  <cp:lastModifiedBy>Buffalo Grive High School</cp:lastModifiedBy>
  <dcterms:modified xsi:type="dcterms:W3CDTF">2012-02-09T17:29:09Z</dcterms:modified>
  <cp:revision>59</cp:revision>
  <dc:subject/>
  <dc:title>Progressive Era </dc:title>
</cp:coreProperties>
</file>